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67688775321"/>
          <c:y val="0.02019192323070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7780246639"/>
          <c:y val="0.156537385045982"/>
          <c:w val="0.959893345183869"/>
          <c:h val="0.8232706917233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3</c:v>
                </c:pt>
                <c:pt idx="2">
                  <c:v>19</c:v>
                </c:pt>
                <c:pt idx="3">
                  <c:v>5</c:v>
                </c:pt>
                <c:pt idx="4">
                  <c:v>6</c:v>
                </c:pt>
                <c:pt idx="5">
                  <c:v>1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8.14402173913044</c:v>
                </c:pt>
                <c:pt idx="1">
                  <c:v>6.60326086956522</c:v>
                </c:pt>
                <c:pt idx="2">
                  <c:v>18.0489130434783</c:v>
                </c:pt>
                <c:pt idx="3">
                  <c:v>16.2880434782609</c:v>
                </c:pt>
                <c:pt idx="4">
                  <c:v>8.36413043478261</c:v>
                </c:pt>
                <c:pt idx="5">
                  <c:v>8.36413043478261</c:v>
                </c:pt>
                <c:pt idx="6">
                  <c:v>3.52173913043478</c:v>
                </c:pt>
                <c:pt idx="7">
                  <c:v>8.3641304347826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76086956521739</c:v>
                </c:pt>
                <c:pt idx="15">
                  <c:v>1.54076086956522</c:v>
                </c:pt>
              </c:numCache>
            </c:numRef>
          </c:val>
        </c:ser>
        <c:gapWidth val="100"/>
        <c:overlap val="0"/>
        <c:axId val="66431014"/>
        <c:axId val="66821587"/>
      </c:barChart>
      <c:catAx>
        <c:axId val="664310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1587"/>
        <c:crossesAt val="0"/>
        <c:auto val="1"/>
        <c:lblAlgn val="ctr"/>
        <c:lblOffset val="100"/>
        <c:noMultiLvlLbl val="0"/>
      </c:catAx>
      <c:valAx>
        <c:axId val="66821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101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59957335229545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</c:v>
                </c:pt>
                <c:pt idx="3">
                  <c:v>0</c:v>
                </c:pt>
                <c:pt idx="4">
                  <c:v>7</c:v>
                </c:pt>
                <c:pt idx="5">
                  <c:v>3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4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13333333333333</c:v>
                </c:pt>
                <c:pt idx="1">
                  <c:v>4.13333333333333</c:v>
                </c:pt>
                <c:pt idx="2">
                  <c:v>11.0222222222222</c:v>
                </c:pt>
                <c:pt idx="3">
                  <c:v>9.64444444444445</c:v>
                </c:pt>
                <c:pt idx="4">
                  <c:v>5.51111111111111</c:v>
                </c:pt>
                <c:pt idx="5">
                  <c:v>6.88888888888889</c:v>
                </c:pt>
                <c:pt idx="6">
                  <c:v>4.13333333333333</c:v>
                </c:pt>
                <c:pt idx="7">
                  <c:v>4.13333333333333</c:v>
                </c:pt>
                <c:pt idx="8">
                  <c:v>2.75555555555556</c:v>
                </c:pt>
                <c:pt idx="9">
                  <c:v>2.75555555555556</c:v>
                </c:pt>
                <c:pt idx="10">
                  <c:v>2.75555555555556</c:v>
                </c:pt>
                <c:pt idx="11">
                  <c:v>0</c:v>
                </c:pt>
                <c:pt idx="12">
                  <c:v>1.37777777777778</c:v>
                </c:pt>
                <c:pt idx="13">
                  <c:v>1.37777777777778</c:v>
                </c:pt>
                <c:pt idx="14">
                  <c:v>1.3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5011113"/>
        <c:axId val="57958353"/>
      </c:barChart>
      <c:catAx>
        <c:axId val="650111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8353"/>
        <c:crossesAt val="0"/>
        <c:auto val="1"/>
        <c:lblAlgn val="ctr"/>
        <c:lblOffset val="100"/>
        <c:noMultiLvlLbl val="0"/>
      </c:catAx>
      <c:valAx>
        <c:axId val="57958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11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60001777698769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6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</c:v>
                </c:pt>
                <c:pt idx="1">
                  <c:v>4.8</c:v>
                </c:pt>
                <c:pt idx="2">
                  <c:v>12.8</c:v>
                </c:pt>
                <c:pt idx="3">
                  <c:v>11.2</c:v>
                </c:pt>
                <c:pt idx="4">
                  <c:v>6.4</c:v>
                </c:pt>
                <c:pt idx="5">
                  <c:v>8</c:v>
                </c:pt>
                <c:pt idx="6">
                  <c:v>4.8</c:v>
                </c:pt>
                <c:pt idx="7">
                  <c:v>4.8</c:v>
                </c:pt>
                <c:pt idx="8">
                  <c:v>3.2</c:v>
                </c:pt>
                <c:pt idx="9">
                  <c:v>3.2</c:v>
                </c:pt>
                <c:pt idx="10">
                  <c:v>3.2</c:v>
                </c:pt>
                <c:pt idx="11">
                  <c:v>0</c:v>
                </c:pt>
                <c:pt idx="12">
                  <c:v>1.6</c:v>
                </c:pt>
                <c:pt idx="13">
                  <c:v>1.6</c:v>
                </c:pt>
                <c:pt idx="14">
                  <c:v>1.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3903290"/>
        <c:axId val="18384206"/>
      </c:barChart>
      <c:catAx>
        <c:axId val="439032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84206"/>
        <c:crossesAt val="0"/>
        <c:auto val="1"/>
        <c:lblAlgn val="ctr"/>
        <c:lblOffset val="100"/>
        <c:noMultiLvlLbl val="0"/>
      </c:catAx>
      <c:valAx>
        <c:axId val="18384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32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333333333333</c:v>
                </c:pt>
                <c:pt idx="1">
                  <c:v>3.53333333333333</c:v>
                </c:pt>
                <c:pt idx="2">
                  <c:v>9.42222222222222</c:v>
                </c:pt>
                <c:pt idx="3">
                  <c:v>8.24444444444444</c:v>
                </c:pt>
                <c:pt idx="4">
                  <c:v>4.71111111111111</c:v>
                </c:pt>
                <c:pt idx="5">
                  <c:v>5.88888888888889</c:v>
                </c:pt>
                <c:pt idx="6">
                  <c:v>3.53333333333333</c:v>
                </c:pt>
                <c:pt idx="7">
                  <c:v>3.53333333333333</c:v>
                </c:pt>
                <c:pt idx="8">
                  <c:v>2.35555555555556</c:v>
                </c:pt>
                <c:pt idx="9">
                  <c:v>2.35555555555556</c:v>
                </c:pt>
                <c:pt idx="10">
                  <c:v>2.35555555555556</c:v>
                </c:pt>
                <c:pt idx="11">
                  <c:v>0</c:v>
                </c:pt>
                <c:pt idx="12">
                  <c:v>1.17777777777778</c:v>
                </c:pt>
                <c:pt idx="13">
                  <c:v>1.17777777777778</c:v>
                </c:pt>
                <c:pt idx="14">
                  <c:v>1.1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2807892"/>
        <c:axId val="11052787"/>
      </c:barChart>
      <c:catAx>
        <c:axId val="528078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52787"/>
        <c:crossesAt val="0"/>
        <c:auto val="1"/>
        <c:lblAlgn val="ctr"/>
        <c:lblOffset val="100"/>
        <c:noMultiLvlLbl val="0"/>
      </c:catAx>
      <c:valAx>
        <c:axId val="11052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0789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8741364661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116353458617"/>
          <c:w val="0.95999113376925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7</c:v>
                </c:pt>
                <c:pt idx="2">
                  <c:v>3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3478260869565</c:v>
                </c:pt>
                <c:pt idx="1">
                  <c:v>5.21739130434783</c:v>
                </c:pt>
                <c:pt idx="2">
                  <c:v>14.2608695652174</c:v>
                </c:pt>
                <c:pt idx="3">
                  <c:v>12.8695652173913</c:v>
                </c:pt>
                <c:pt idx="4">
                  <c:v>6.60869565217391</c:v>
                </c:pt>
                <c:pt idx="5">
                  <c:v>6.60869565217391</c:v>
                </c:pt>
                <c:pt idx="6">
                  <c:v>2.78260869565217</c:v>
                </c:pt>
                <c:pt idx="7">
                  <c:v>6.6086956521739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130434782609</c:v>
                </c:pt>
                <c:pt idx="15">
                  <c:v>1.21739130434783</c:v>
                </c:pt>
              </c:numCache>
            </c:numRef>
          </c:val>
        </c:ser>
        <c:gapWidth val="100"/>
        <c:overlap val="0"/>
        <c:axId val="26442597"/>
        <c:axId val="70989049"/>
      </c:barChart>
      <c:catAx>
        <c:axId val="2644259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89049"/>
        <c:crossesAt val="0"/>
        <c:auto val="1"/>
        <c:lblAlgn val="ctr"/>
        <c:lblOffset val="100"/>
        <c:noMultiLvlLbl val="0"/>
      </c:catAx>
      <c:valAx>
        <c:axId val="70989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4259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04377352919"/>
          <c:y val="0.020583533173461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75204842401"/>
          <c:y val="0.209232613908873"/>
          <c:w val="0.959954233409611"/>
          <c:h val="0.770183852917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4</c:v>
                </c:pt>
                <c:pt idx="3">
                  <c:v>4</c:v>
                </c:pt>
                <c:pt idx="4">
                  <c:v>3</c:v>
                </c:pt>
                <c:pt idx="5">
                  <c:v>8</c:v>
                </c:pt>
                <c:pt idx="6">
                  <c:v>3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3315217391304</c:v>
                </c:pt>
                <c:pt idx="1">
                  <c:v>4.97282608695652</c:v>
                </c:pt>
                <c:pt idx="2">
                  <c:v>13.5923913043478</c:v>
                </c:pt>
                <c:pt idx="3">
                  <c:v>12.2663043478261</c:v>
                </c:pt>
                <c:pt idx="4">
                  <c:v>6.29891304347826</c:v>
                </c:pt>
                <c:pt idx="5">
                  <c:v>6.29891304347826</c:v>
                </c:pt>
                <c:pt idx="6">
                  <c:v>2.65217391304348</c:v>
                </c:pt>
                <c:pt idx="7">
                  <c:v>6.298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608695652174</c:v>
                </c:pt>
                <c:pt idx="15">
                  <c:v>1.16032608695652</c:v>
                </c:pt>
              </c:numCache>
            </c:numRef>
          </c:val>
        </c:ser>
        <c:gapWidth val="100"/>
        <c:overlap val="0"/>
        <c:axId val="33869104"/>
        <c:axId val="16263644"/>
      </c:barChart>
      <c:catAx>
        <c:axId val="338691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3644"/>
        <c:crossesAt val="0"/>
        <c:auto val="1"/>
        <c:lblAlgn val="ctr"/>
        <c:lblOffset val="100"/>
        <c:noMultiLvlLbl val="0"/>
      </c:catAx>
      <c:valAx>
        <c:axId val="16263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6910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27213695396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0484061393"/>
          <c:y val="0.209116353458617"/>
          <c:w val="0.959969008264463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7</c:v>
                </c:pt>
                <c:pt idx="2">
                  <c:v>9</c:v>
                </c:pt>
                <c:pt idx="3">
                  <c:v>3</c:v>
                </c:pt>
                <c:pt idx="4">
                  <c:v>5</c:v>
                </c:pt>
                <c:pt idx="5">
                  <c:v>23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3423913043478</c:v>
                </c:pt>
                <c:pt idx="1">
                  <c:v>5.13586956521739</c:v>
                </c:pt>
                <c:pt idx="2">
                  <c:v>14.0380434782609</c:v>
                </c:pt>
                <c:pt idx="3">
                  <c:v>12.6684782608696</c:v>
                </c:pt>
                <c:pt idx="4">
                  <c:v>6.5054347826087</c:v>
                </c:pt>
                <c:pt idx="5">
                  <c:v>6.5054347826087</c:v>
                </c:pt>
                <c:pt idx="6">
                  <c:v>2.73913043478261</c:v>
                </c:pt>
                <c:pt idx="7">
                  <c:v>6.50543478260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95652173913</c:v>
                </c:pt>
                <c:pt idx="15">
                  <c:v>1.19836956521739</c:v>
                </c:pt>
              </c:numCache>
            </c:numRef>
          </c:val>
        </c:ser>
        <c:gapWidth val="100"/>
        <c:overlap val="0"/>
        <c:axId val="57208447"/>
        <c:axId val="80222401"/>
      </c:barChart>
      <c:catAx>
        <c:axId val="572084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2401"/>
        <c:crossesAt val="0"/>
        <c:auto val="1"/>
        <c:lblAlgn val="ctr"/>
        <c:lblOffset val="100"/>
        <c:noMultiLvlLbl val="0"/>
      </c:catAx>
      <c:valAx>
        <c:axId val="80222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84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53084499740798"/>
          <c:y val="0.02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14989261646"/>
          <c:y val="0.1564"/>
          <c:w val="0.95989780048878"/>
          <c:h val="0.82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1</c:v>
                </c:pt>
                <c:pt idx="2">
                  <c:v>13</c:v>
                </c:pt>
                <c:pt idx="3">
                  <c:v>6</c:v>
                </c:pt>
                <c:pt idx="4">
                  <c:v>1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</c:v>
                </c:pt>
                <c:pt idx="1">
                  <c:v>3.82962962962963</c:v>
                </c:pt>
                <c:pt idx="2">
                  <c:v>10.4444444444444</c:v>
                </c:pt>
                <c:pt idx="3">
                  <c:v>9.4</c:v>
                </c:pt>
                <c:pt idx="4">
                  <c:v>4.87407407407407</c:v>
                </c:pt>
                <c:pt idx="5">
                  <c:v>4.87407407407407</c:v>
                </c:pt>
                <c:pt idx="6">
                  <c:v>2.08888888888889</c:v>
                </c:pt>
                <c:pt idx="7">
                  <c:v>4.8740740740740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4444444444444</c:v>
                </c:pt>
                <c:pt idx="15">
                  <c:v>0.87037037037037</c:v>
                </c:pt>
              </c:numCache>
            </c:numRef>
          </c:val>
        </c:ser>
        <c:gapWidth val="100"/>
        <c:overlap val="0"/>
        <c:axId val="25854590"/>
        <c:axId val="45495404"/>
      </c:barChart>
      <c:catAx>
        <c:axId val="258545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5404"/>
        <c:crossesAt val="0"/>
        <c:auto val="1"/>
        <c:lblAlgn val="ctr"/>
        <c:lblOffset val="100"/>
        <c:noMultiLvlLbl val="0"/>
      </c:catAx>
      <c:valAx>
        <c:axId val="45495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45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28748753186"/>
          <c:y val="0.0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6"/>
          <c:w val="0.959991133769256"/>
          <c:h val="0.7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2</c:v>
                </c:pt>
                <c:pt idx="5">
                  <c:v>18</c:v>
                </c:pt>
                <c:pt idx="6">
                  <c:v>6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</c:v>
                </c:pt>
                <c:pt idx="1">
                  <c:v>4.64444444444444</c:v>
                </c:pt>
                <c:pt idx="2">
                  <c:v>12.6666666666667</c:v>
                </c:pt>
                <c:pt idx="3">
                  <c:v>11.4</c:v>
                </c:pt>
                <c:pt idx="4">
                  <c:v>5.91111111111111</c:v>
                </c:pt>
                <c:pt idx="5">
                  <c:v>5.91111111111111</c:v>
                </c:pt>
                <c:pt idx="6">
                  <c:v>2.53333333333333</c:v>
                </c:pt>
                <c:pt idx="7">
                  <c:v>5.911111111111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6666666666667</c:v>
                </c:pt>
                <c:pt idx="15">
                  <c:v>1.05555555555556</c:v>
                </c:pt>
              </c:numCache>
            </c:numRef>
          </c:val>
        </c:ser>
        <c:gapWidth val="100"/>
        <c:overlap val="0"/>
        <c:axId val="64381970"/>
        <c:axId val="39059161"/>
      </c:barChart>
      <c:catAx>
        <c:axId val="643819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9161"/>
        <c:crossesAt val="0"/>
        <c:auto val="1"/>
        <c:lblAlgn val="ctr"/>
        <c:lblOffset val="100"/>
        <c:noMultiLvlLbl val="0"/>
      </c:catAx>
      <c:valAx>
        <c:axId val="39059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197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09959026983"/>
          <c:y val="0.02038776733959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59063895759"/>
          <c:y val="0.20907455526684"/>
          <c:w val="0.960023624081798"/>
          <c:h val="0.7699380371776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5</c:v>
                </c:pt>
                <c:pt idx="3">
                  <c:v>1</c:v>
                </c:pt>
                <c:pt idx="4">
                  <c:v>3</c:v>
                </c:pt>
                <c:pt idx="5">
                  <c:v>9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</c:v>
                </c:pt>
                <c:pt idx="1">
                  <c:v>3.42222222222222</c:v>
                </c:pt>
                <c:pt idx="2">
                  <c:v>9.33333333333333</c:v>
                </c:pt>
                <c:pt idx="3">
                  <c:v>8.4</c:v>
                </c:pt>
                <c:pt idx="4">
                  <c:v>4.35555555555556</c:v>
                </c:pt>
                <c:pt idx="5">
                  <c:v>4.35555555555556</c:v>
                </c:pt>
                <c:pt idx="6">
                  <c:v>1.86666666666667</c:v>
                </c:pt>
                <c:pt idx="7">
                  <c:v>4.355555555555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33333333333333</c:v>
                </c:pt>
                <c:pt idx="15">
                  <c:v>0.777777777777778</c:v>
                </c:pt>
              </c:numCache>
            </c:numRef>
          </c:val>
        </c:ser>
        <c:gapWidth val="100"/>
        <c:overlap val="0"/>
        <c:axId val="41277473"/>
        <c:axId val="94291122"/>
      </c:barChart>
      <c:catAx>
        <c:axId val="412774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1122"/>
        <c:crossesAt val="0"/>
        <c:auto val="1"/>
        <c:lblAlgn val="ctr"/>
        <c:lblOffset val="100"/>
        <c:noMultiLvlLbl val="0"/>
      </c:catAx>
      <c:valAx>
        <c:axId val="94291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774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79" spc="-1" strike="noStrike">
                <a:solidFill>
                  <a:srgbClr val="000000"/>
                </a:solidFill>
                <a:latin typeface="Arial"/>
              </a:defRPr>
            </a:pPr>
            <a:r>
              <a:rPr b="1" sz="1479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181328545781"/>
          <c:y val="0.020137856467090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30700179533"/>
          <c:y val="0.209487768617381"/>
          <c:w val="0.959964093357271"/>
          <c:h val="0.7702392215164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2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</c:v>
                </c:pt>
                <c:pt idx="1">
                  <c:v>3.74814814814815</c:v>
                </c:pt>
                <c:pt idx="2">
                  <c:v>10.2222222222222</c:v>
                </c:pt>
                <c:pt idx="3">
                  <c:v>9.2</c:v>
                </c:pt>
                <c:pt idx="4">
                  <c:v>4.77037037037037</c:v>
                </c:pt>
                <c:pt idx="5">
                  <c:v>4.77037037037037</c:v>
                </c:pt>
                <c:pt idx="6">
                  <c:v>2.04444444444444</c:v>
                </c:pt>
                <c:pt idx="7">
                  <c:v>4.7703703703703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222222222222</c:v>
                </c:pt>
                <c:pt idx="15">
                  <c:v>0.851851851851852</c:v>
                </c:pt>
              </c:numCache>
            </c:numRef>
          </c:val>
        </c:ser>
        <c:gapWidth val="100"/>
        <c:overlap val="0"/>
        <c:axId val="57626836"/>
        <c:axId val="11672708"/>
      </c:barChart>
      <c:catAx>
        <c:axId val="5762683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2708"/>
        <c:crossesAt val="0"/>
        <c:auto val="1"/>
        <c:lblAlgn val="ctr"/>
        <c:lblOffset val="100"/>
        <c:noMultiLvlLbl val="0"/>
      </c:catAx>
      <c:valAx>
        <c:axId val="11672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2683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230471191101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333333333333</c:v>
                </c:pt>
                <c:pt idx="1">
                  <c:v>3.33333333333333</c:v>
                </c:pt>
                <c:pt idx="2">
                  <c:v>8.88888888888889</c:v>
                </c:pt>
                <c:pt idx="3">
                  <c:v>7.77777777777778</c:v>
                </c:pt>
                <c:pt idx="4">
                  <c:v>5.55555555555556</c:v>
                </c:pt>
                <c:pt idx="5">
                  <c:v>5.55555555555556</c:v>
                </c:pt>
                <c:pt idx="6">
                  <c:v>4.44444444444444</c:v>
                </c:pt>
                <c:pt idx="7">
                  <c:v>3.33333333333333</c:v>
                </c:pt>
                <c:pt idx="8">
                  <c:v>2.22222222222222</c:v>
                </c:pt>
                <c:pt idx="9">
                  <c:v>2.22222222222222</c:v>
                </c:pt>
                <c:pt idx="10">
                  <c:v>2.2222222222222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1111111111111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5994055"/>
        <c:axId val="53797286"/>
      </c:barChart>
      <c:catAx>
        <c:axId val="9599405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97286"/>
        <c:crossesAt val="0"/>
        <c:auto val="1"/>
        <c:lblAlgn val="ctr"/>
        <c:lblOffset val="100"/>
        <c:noMultiLvlLbl val="0"/>
      </c:catAx>
      <c:valAx>
        <c:axId val="53797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9405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1E42D-6E69-47CB-96F7-7920AF0F7E0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4CBB-EE80-445F-9009-ED758CD0F6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6D4D-6694-48DC-BAD5-89F040C5EA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37990-6C0D-4C28-89B5-6AC27D815A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7C60-C24F-46C2-9A9C-ACFDFF79AB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56661-5FE6-4D53-A988-CD28E396DD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94702-4D46-4A86-B949-1193DB8774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64179-5188-4727-9DFF-EE490C15E5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BD4C4-783D-408D-9F30-7AD53DFD12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D5A3-3889-4721-9CAD-A24B93E94E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15709-A9C9-4345-9853-576E30EBCDC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CDF99-6F16-492C-9F7B-58B1550951D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60343-9BC4-4FD4-8DDE-53A43DE3A1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F0455-6BCE-4927-B3AE-3DD8E5E99B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F22DE-C666-40B3-96EC-CEAD43CB58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5D706-0749-4F69-B5A0-BC5370868C1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685F-CA49-43EA-9801-7D68F9D7B81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43B-518A-4617-8E91-B05CBC85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98D-8E2D-4893-95FA-732C585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37A-D73A-43DE-ABB3-8D611410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A0D-7E64-4C93-8616-9E0092B3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A65-DD55-43F4-BCE5-1C3074F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795-16AC-4195-95A0-B5F11310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1C2-533A-4F53-83D0-50C7D219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6B2-0190-4F78-B281-3C0D2401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7A7-A599-4EEA-B842-5CE3B5C0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984-74F0-404D-B61C-DD70504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A2B-4CED-4D90-AE77-487479F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0D0-4C77-4D74-A0FF-A53748F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6F4E2A-491A-4EC3-BDBD-82DA26CEBE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547640" y="393372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DejaVu Sans"/>
              </a:rPr>
              <a:t>ESCOLA ESTADU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8" name="Object 4"/>
          <p:cNvGraphicFramePr/>
          <p:nvPr/>
        </p:nvGraphicFramePr>
        <p:xfrm>
          <a:off x="287964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964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619200" y="1657440"/>
          <a:ext cx="8020080" cy="266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2436840" y="4500720"/>
          <a:ext cx="47642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684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1" name="Object 4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284940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Object 4"/>
          <p:cNvGraphicFramePr/>
          <p:nvPr/>
        </p:nvGraphicFramePr>
        <p:xfrm>
          <a:off x="2436840" y="4500720"/>
          <a:ext cx="47642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684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457200" y="1657440"/>
          <a:ext cx="818208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4" name="Object 4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446040" y="1657440"/>
          <a:ext cx="819468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2076480" y="45007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45007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159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3" name="Object 4"/>
          <p:cNvGraphicFramePr/>
          <p:nvPr/>
        </p:nvGraphicFramePr>
        <p:xfrm>
          <a:off x="287964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964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Luciana Catarino</cp:lastModifiedBy>
  <dcterms:modified xsi:type="dcterms:W3CDTF">2009-07-10T23:17:28Z</dcterms:modified>
  <cp:revision>1</cp:revision>
  <dc:subject/>
  <dc:title>As tecnologias mais utilizadas na escola são:</dc:title>
</cp:coreProperties>
</file>